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9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2B223D-C22A-4A9E-94DC-C2F320974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C92104-4713-40BD-86DD-BEEC72629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F33F0A-2C75-4DF6-AC2C-E132173BD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88A035-9639-4194-8852-8D53551F6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FB2C18-384D-4F92-8730-C4D147116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8336FC-5932-4C61-B491-C294353F1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96DADF-9D4E-4F67-9D77-00C0A7A0C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166C31-95D8-4D10-BD7E-F915FA4DC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21ED46-2A09-4FAB-8A18-C97D21C43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EDF739-3D78-4663-BBD2-2EB42BA86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F19978-C4F3-4A6A-A629-22EC4BF32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FC75E8-1242-4B2C-9AA7-12A10A8B9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2ECEA9-6CFB-4194-9690-D5E599363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2E838A-0032-4A77-8859-0F56C5A22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92A5BC-B2BF-4668-90FA-D2B4BCC08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8394D4-D5DB-4B3E-B358-12A484A3A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67AB45-591C-461F-BEDF-9FB22284D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FDCB6F-AC00-499A-B6B4-E0DF6098D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C135BF-C78D-47FC-AD0A-E128A1BEA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37F463-11C2-4BA5-9434-9A2B2256C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3B4B2A-3807-4862-BC92-F437AE009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F71FEE-93BC-4764-8D35-5197119BF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11EAC2-4C3A-4F5D-B39C-DEFA847A7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68F3CC-D58E-4B0C-A232-0F5DEA6DB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1B1BFC-CF17-499F-98EF-A34C1C2EF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EB03D2-41D1-4FFD-925D-43B3F89C3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E4E9E9-A231-4967-B6DE-531B331A1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CF7E72-125A-42EC-ACD9-75C12FE43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0F65D8-282D-49FD-941F-823DAD4B8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A90619-9778-4DC6-B9F7-96D0F8D88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6B768-91CB-4ED5-87D8-A569C0750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6A837C-A3D8-4F62-9313-0684CBA70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B0DC7B-3A13-4CE1-9618-12E40CBD9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8C2CDF-2A25-4563-9206-B34BB5049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16340F-E9A5-4AC4-98BC-F3CC7DC59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4C131E-4D28-4011-A723-2C5829B84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352AE3-3833-4023-841D-FE0B2A4F7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B812D6-7D54-4782-B69D-6B2D3545D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BCF56C-DDE8-4A18-B70E-5467BD258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5408B4-EAF4-4080-B188-27FDD9EB2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51EDD3-A009-42EA-88E3-71D70369E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914D3-9DB8-43A0-B023-0C454A239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730C4B-B94E-409B-9C79-9E318A0D7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B01967-27A0-48E7-A8A5-66A882142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91E673-3A56-4B4B-93CE-3B1684F57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0CD253-BA1E-451E-B315-2EB8B8DC1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4A9AA6-BEDA-4E6F-987A-D1C570676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0D863-11EE-418C-A794-08A14F3F6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B83B8-51E9-451C-9292-70F4457AE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9EB34-C781-4054-8F84-C73033D7A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18A56-3DEA-4CE3-9B10-5C57A83D6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F8BFF-0EAD-4D7B-B110-0C06602CE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D7AB3-54D8-4D0B-BD93-D313BAA63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AA881-B5D1-4734-9FD2-A2A6353BB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6C566-7378-4C3B-A590-4429B571E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5571F-A992-4474-B0D4-CF59ADEE2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833F8-995F-418E-A371-D5D9143C5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A6C49-0E0F-4048-BE9C-2B83109B3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41D20-7C0B-460A-8B8E-5C1D87871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C1959-5D77-4AA0-8716-11E332DAC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CB173-0083-41F4-9664-D6B1ACD02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9555A-C239-465E-8E22-2CF785E04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6D531-C6F8-4557-9281-28857A339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FC075-AD9A-45FE-AC20-7ACF7071E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F6DF9-17EA-49DC-BE8F-388E1B67B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4AA53-379C-49F2-B6D7-842DE7F2D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A7207-D283-488F-A3F5-577092AA1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B0A54-8D5A-4EAE-B2E4-D2A5816D5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7E2AA-A54F-42D2-AC15-9E0A3421F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81965D-0047-48F4-B3B4-47E6EA4EF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58E36B-217F-4654-8DCD-7C76F8A76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852CF2-1FAF-48D1-80BB-5A2A27DE4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BDBF3A-0FA5-4B65-B3CE-09C805E58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D92E9A-E0A8-4694-B53C-C685D539C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80B325-5F6F-4757-B3DC-0E76D3920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E1D03D-750E-496E-8541-70C9E2FBB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4A61DA-0EFB-4D65-A40F-616FB33D0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3BE0F4-CA1B-43FF-B589-3A0A0928E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9A394B-4ECD-4A4F-A9E7-EAF229E17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1FCE8F-613B-4F3F-AEDA-B45E300BF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675770-0A78-43C2-ADF4-1C9B38FAD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127CE3-AAD4-4717-9609-518714F48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98CD6F-1E31-4760-B9BE-7BD385590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7CF110-176C-40C0-9022-8AD02A1D8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E2B832-780E-4F89-A310-40321A46E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4611AC-A8B9-4CA0-862B-451F63FF4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553500-3FEA-4206-8636-72C68BD1E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CB8026-77E1-4CD5-8CB5-AB62E7C3B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1BC394-05E8-42E0-BB58-2452D8BE0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98A941-5C53-492B-B525-B62587BC8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799159-F646-4BCB-9F63-580EFB287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886AA7-8973-41CB-A0F6-408F07F07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06B7AA-FB12-48DC-B343-8C96B0C6D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AD7449-B712-48AC-A20E-D97C4A446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E77AF5-A3D7-4004-BE93-B771E2096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81EDC7-9ED3-4DB2-8A9E-9A8B271E7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FBCACB-C1C4-40E3-BEE4-4DA54E601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A6DC57-6881-4D7B-B145-58EBE7948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B26836-9A85-4BA6-BC18-D1B9B34D5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FC0586-5519-4365-ABA6-1687B55B3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C764C3-EC22-4EA1-8164-3960F6A81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5A59A0-71A8-4571-A4F4-5D25AB2D0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E69F84-B4A9-4DB5-A498-3F52FABBA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11E2DF-7AB3-4DD9-8908-A924F762E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B2DE9F-B975-454E-BE70-E66E0CF0E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183902-159C-4F09-B3D1-0630FE3C9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654991-7F76-4FE7-BF11-84F1A1D4E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843595-07F8-4C87-A62D-B79BAFF1B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8B21BC-44FE-475B-A20E-733ED577C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7A72D9-E877-4CD1-B78B-227906BE1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68AC20-4EC5-497F-87E2-895A7620E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E6C738-0110-43B3-B977-2325C39F6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798BC2-2FE4-49EB-9D8E-792A660CD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0A4D8F-0039-46F6-BB9D-A027BF13D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B779D6-64C5-42A0-BFAB-C1BD2CF03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B58550-4611-4E49-9CB0-C041676C1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5D4B43-9E19-458A-8933-C01E92B63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545CEC-EE8B-4676-BB6B-92A503C0B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F0E606-0FE9-44DA-852E-F7FDC6B78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23EF85-CA15-47AE-905C-DEBE9CAC8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B3C2B4-0B9C-46E0-AB81-1C2FB6126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CD9ABD-6AD3-4FB4-9389-9F8886C05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651238-B0C5-4E18-8DDE-11D4E2830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3AB1FD-EDDC-4CE7-93E8-88AE6E553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9D0238-42EB-4DAA-B7BE-EBF913BD0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EFA706-2F9E-4D2A-A785-D1C9D7B73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A4BF3C-F41A-43D3-A616-70B0467F0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0EA752-58D8-425E-984A-130B1FE3B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7E061A-230D-4936-9FC0-18A9F7136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20E8A5-5805-4B22-A811-9D906F478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478177-FCF5-4258-B2C5-4F2B947E0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CF3F99-A7A8-46DA-8D4B-C336C31B1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3" descr="RefocusNoStrapline.jpg"/>
          <p:cNvPicPr/>
          <p:nvPr/>
        </p:nvPicPr>
        <p:blipFill>
          <a:blip r:embed="rId2"/>
          <a:srcRect l="6288" t="0" r="0" b="25171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Picture 13" descr="RefocusNoStrapline.jpg"/>
          <p:cNvPicPr/>
          <p:nvPr/>
        </p:nvPicPr>
        <p:blipFill>
          <a:blip r:embed="rId2"/>
          <a:srcRect l="6288" t="0" r="0" b="25171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379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2FE00-0461-42EB-81B6-C2361F3767BE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Picture 13" descr="RefocusNoStrapline.jpg"/>
          <p:cNvPicPr/>
          <p:nvPr/>
        </p:nvPicPr>
        <p:blipFill>
          <a:blip r:embed="rId2"/>
          <a:srcRect l="6288" t="0" r="0" b="25171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21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06F6F-0358-4DF7-AB9B-C7AADABDCBF6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Picture 13" descr="RefocusNoStrapline.jpg"/>
          <p:cNvPicPr/>
          <p:nvPr/>
        </p:nvPicPr>
        <p:blipFill>
          <a:blip r:embed="rId2"/>
          <a:srcRect l="6288" t="0" r="0" b="25171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63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46E75-B250-42B8-81EB-ECE29C5C505D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13" descr="RefocusNoStrapline.jpg"/>
          <p:cNvPicPr/>
          <p:nvPr/>
        </p:nvPicPr>
        <p:blipFill>
          <a:blip r:embed="rId2"/>
          <a:srcRect l="6288" t="0" r="0" b="25171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1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BBC7B-7827-4907-BBC5-5BD13843C433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13" descr="RefocusNoStrapline.jpg"/>
          <p:cNvPicPr/>
          <p:nvPr/>
        </p:nvPicPr>
        <p:blipFill>
          <a:blip r:embed="rId2"/>
          <a:srcRect l="6288" t="0" r="0" b="25171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83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156CB-4591-477F-B9B5-40ACF87F7748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13" descr="RefocusNoStrapline.jpg"/>
          <p:cNvPicPr/>
          <p:nvPr/>
        </p:nvPicPr>
        <p:blipFill>
          <a:blip r:embed="rId2"/>
          <a:srcRect l="6288" t="0" r="0" b="25171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127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E315D-9394-4B80-B6E7-5D45A3B0D335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13" descr="RefocusNoStrapline.jpg"/>
          <p:cNvPicPr/>
          <p:nvPr/>
        </p:nvPicPr>
        <p:blipFill>
          <a:blip r:embed="rId2"/>
          <a:srcRect l="6288" t="0" r="0" b="25171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169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CC8F2-0A36-4515-82A5-AD3B0002637D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13" descr="RefocusNoStrapline.jpg"/>
          <p:cNvPicPr/>
          <p:nvPr/>
        </p:nvPicPr>
        <p:blipFill>
          <a:blip r:embed="rId2"/>
          <a:srcRect l="6288" t="0" r="0" b="25171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11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20DB5-9AF9-4FDC-A510-79B1A2A2CECC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13" descr="RefocusNoStrapline.jpg"/>
          <p:cNvPicPr/>
          <p:nvPr/>
        </p:nvPicPr>
        <p:blipFill>
          <a:blip r:embed="rId2"/>
          <a:srcRect l="6288" t="0" r="0" b="25171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53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A722C-C8CE-4EA9-BD6F-97CB6E8B627E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13" descr="RefocusNoStrapline.jpg"/>
          <p:cNvPicPr/>
          <p:nvPr/>
        </p:nvPicPr>
        <p:blipFill>
          <a:blip r:embed="rId2"/>
          <a:srcRect l="6288" t="0" r="0" b="25171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95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BAB7C-0550-4610-A7AD-1FF9A782DC29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13" descr="RefocusNoStrapline.jpg"/>
          <p:cNvPicPr/>
          <p:nvPr/>
        </p:nvPicPr>
        <p:blipFill>
          <a:blip r:embed="rId2"/>
          <a:srcRect l="6288" t="0" r="0" b="25171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337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F3DE8-DED5-4F7E-956A-C16A6D74B55C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3" name="Picture 2" descr="\\genesis\Mission\Refocus\Refocus Images\RefocusLogo_NoStrapline.png"/>
          <p:cNvPicPr/>
          <p:nvPr/>
        </p:nvPicPr>
        <p:blipFill>
          <a:blip r:embed="rId1"/>
          <a:stretch/>
        </p:blipFill>
        <p:spPr>
          <a:xfrm>
            <a:off x="1643040" y="1643040"/>
            <a:ext cx="5429160" cy="36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Picture 2" descr="\\genesis\Mission\Refocus\Refocus Images\RefocusLogo_NoStrapline.png"/>
          <p:cNvPicPr/>
          <p:nvPr/>
        </p:nvPicPr>
        <p:blipFill>
          <a:blip r:embed="rId1"/>
          <a:stretch/>
        </p:blipFill>
        <p:spPr>
          <a:xfrm>
            <a:off x="1643040" y="1643040"/>
            <a:ext cx="5429160" cy="36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2" descr="\\genesis\Mission\Refocus\Refocus Images\RefocusLogo_NoStrapline.png"/>
          <p:cNvPicPr/>
          <p:nvPr/>
        </p:nvPicPr>
        <p:blipFill>
          <a:blip r:embed="rId1"/>
          <a:stretch/>
        </p:blipFill>
        <p:spPr>
          <a:xfrm>
            <a:off x="1643040" y="1643040"/>
            <a:ext cx="5429160" cy="36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6" name="Picture 2" descr="\\genesis\Mission\Refocus\Refocus Images\RefocusLogo_NoStrapline.png"/>
          <p:cNvPicPr/>
          <p:nvPr/>
        </p:nvPicPr>
        <p:blipFill>
          <a:blip r:embed="rId1"/>
          <a:stretch/>
        </p:blipFill>
        <p:spPr>
          <a:xfrm>
            <a:off x="609480" y="2214720"/>
            <a:ext cx="7961400" cy="26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7" name="Picture 2" descr="\\genesis\Mission\Refocus\Refocus Images\RefocusLogo_NoStrapline.png"/>
          <p:cNvPicPr/>
          <p:nvPr/>
        </p:nvPicPr>
        <p:blipFill>
          <a:blip r:embed="rId1"/>
          <a:stretch/>
        </p:blipFill>
        <p:spPr>
          <a:xfrm>
            <a:off x="1895400" y="500040"/>
            <a:ext cx="5391360" cy="600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8" name="Picture 2" descr="\\genesis\Mission\Refocus\Refocus Images\RefocusLogo_NoStrapline.png"/>
          <p:cNvPicPr/>
          <p:nvPr/>
        </p:nvPicPr>
        <p:blipFill>
          <a:blip r:embed="rId1"/>
          <a:stretch/>
        </p:blipFill>
        <p:spPr>
          <a:xfrm>
            <a:off x="1643040" y="660240"/>
            <a:ext cx="5786640" cy="531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9" name="Picture 2" descr="\\genesis\Mission\Refocus\Refocus Images\RefocusLogo_NoStrapline.png"/>
          <p:cNvPicPr/>
          <p:nvPr/>
        </p:nvPicPr>
        <p:blipFill>
          <a:blip r:embed="rId1"/>
          <a:stretch/>
        </p:blipFill>
        <p:spPr>
          <a:xfrm>
            <a:off x="3786120" y="428760"/>
            <a:ext cx="2500560" cy="3333600"/>
          </a:xfrm>
          <a:prstGeom prst="rect">
            <a:avLst/>
          </a:prstGeom>
          <a:ln w="0">
            <a:noFill/>
          </a:ln>
        </p:spPr>
      </p:pic>
      <p:pic>
        <p:nvPicPr>
          <p:cNvPr id="510" name="Picture 2" descr="\\genesis\Mission\Refocus\Refocus Images\ManWithBoard_Blue.png"/>
          <p:cNvPicPr/>
          <p:nvPr/>
        </p:nvPicPr>
        <p:blipFill>
          <a:blip r:embed="rId2"/>
          <a:stretch/>
        </p:blipFill>
        <p:spPr>
          <a:xfrm>
            <a:off x="357120" y="428760"/>
            <a:ext cx="2500560" cy="3333600"/>
          </a:xfrm>
          <a:prstGeom prst="rect">
            <a:avLst/>
          </a:prstGeom>
          <a:ln w="0">
            <a:noFill/>
          </a:ln>
        </p:spPr>
      </p:pic>
      <p:pic>
        <p:nvPicPr>
          <p:cNvPr id="511" name="Picture 3" descr="\\genesis\Mission\Refocus\Refocus Images\ManWithBoard_Red.png"/>
          <p:cNvPicPr/>
          <p:nvPr/>
        </p:nvPicPr>
        <p:blipFill>
          <a:blip r:embed="rId3"/>
          <a:stretch/>
        </p:blipFill>
        <p:spPr>
          <a:xfrm>
            <a:off x="2286000" y="2500200"/>
            <a:ext cx="2982960" cy="3976920"/>
          </a:xfrm>
          <a:prstGeom prst="rect">
            <a:avLst/>
          </a:prstGeom>
          <a:ln w="0">
            <a:noFill/>
          </a:ln>
        </p:spPr>
      </p:pic>
      <p:pic>
        <p:nvPicPr>
          <p:cNvPr id="512" name="Picture 4" descr="\\genesis\Mission\Refocus\Refocus Images\ManWithBoard_Green.png"/>
          <p:cNvPicPr/>
          <p:nvPr/>
        </p:nvPicPr>
        <p:blipFill>
          <a:blip r:embed="rId4"/>
          <a:stretch/>
        </p:blipFill>
        <p:spPr>
          <a:xfrm>
            <a:off x="5857920" y="2595600"/>
            <a:ext cx="2911320" cy="38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4T07:25:14Z</dcterms:created>
  <dc:creator>CHRIS BROCKWAY</dc:creator>
  <dc:description/>
  <dc:language>en-US</dc:language>
  <cp:lastModifiedBy>Mary Parker</cp:lastModifiedBy>
  <dcterms:modified xsi:type="dcterms:W3CDTF">2012-01-16T12:43:21Z</dcterms:modified>
  <cp:revision>10</cp:revision>
  <dc:subject/>
  <dc:title>PowerPoint Presentation</dc:title>
</cp:coreProperties>
</file>