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BC47CC-4036-42B0-B444-2C9A919F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DBD30-F2C3-40C1-AFAD-7F16B39CA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9A314D-959D-44D6-A904-680CA52B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A30F8-D260-4E95-B41F-5D9847BA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2C0E1-7BC8-4D16-B50C-9260833A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0BE2D-3B10-40D1-935E-CA9571FD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9E1F12-82DC-4759-9219-6791EBF91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57721-F91A-431A-AFDA-76A745DD3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19747-D7E3-4A4A-B6A5-2BA0262AB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B9C0D-5F56-423D-9EF8-1EEEC5546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FCC76-4DE4-489B-A365-457DB03C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EE6ED-5DFA-446D-8E12-A43F5644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1DCA1-67CA-4DF4-85DE-913ADD4C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D63C7-86C2-498C-B31F-FD49520B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4A4BF-6829-438B-88A0-03ABF48D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AF209-12F1-454D-B29F-156AC7D6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6C6A9F-C82E-42E2-A170-FA9F63CB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A8435-7768-4561-B773-4438B83C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F8827-6C21-417A-AE3E-D3F7401B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59A904-4524-4F49-BE95-87903AEEE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F176D-60C3-4622-A9BB-4AA09F7C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24E4DB-85D2-4EC8-A4FD-A1F4DBEC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8EC301-4EA8-4A08-B134-9800133E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0E3A8-69E9-4A03-8DDF-802FE4E3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5870B2-BA3D-45A1-9CE9-4B16F0524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869877-9C72-4B0D-86DB-F4A9B1D1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DB7AD4-B756-4649-A171-8C77AEEEE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50DAD-4E0E-4B34-9478-4996D15D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6E3C5-3839-4D33-8609-A5EBE38F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AB9BD2-5C0A-4821-9BE1-D5AA7E52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A4EA-3A2F-4EE0-AB68-FECF8992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C8472-E121-441A-BA1F-A6361A83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B0ADF8-F497-4F63-952D-FA42769C8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64C18-0977-42FF-8460-85F8A35C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0997EB-E204-48CB-A25F-1CC560740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2F7F9-D585-4EA0-9313-5DFAA40B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38D32C-DE02-4354-908F-5388BB78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605C2-F31D-4825-B43D-35EFB706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873B95-8484-4A6C-BF36-7B0D414F1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D31A5A-921A-484C-8337-420DF522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816471-141A-4621-A09E-1A8402E3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8E16-5747-4F5D-BDA7-5DAB0565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E0E0AB-88D9-438F-93C3-26BE1250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126BE1-FE5D-4EFC-A456-1A0811DD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386A2-1DF2-44BF-BF0E-75F2A6E5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73F1C-672B-49C4-8D6F-524D3F8D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3BD3C-D882-427C-90DA-5527C25B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3D0D-D7A9-4100-934A-FCE6384B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AA62-26F1-4A77-982B-ECF15F56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7161-CB0B-454D-A8B7-71C741BF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59B5-3A4E-45A4-AC79-D18E882E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58E9-7490-4F70-9231-05C0B74B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D408-DE33-4F18-B82F-5B809D13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E22B-F845-4941-B3C6-75862CE1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787F-B9CF-4425-9E48-71914890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D401-368F-4274-941E-6CA1698B8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4AF2-CB7D-4E6D-81FB-1406C059C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AF2A-CFAA-4A17-A2E9-3FF92D45B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6959-4632-4214-9D28-39AF937A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322F8-1D78-4CB5-9422-AA43AC2FC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7586-23FB-4B6B-BC66-28F61442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F6E0-B8BA-4627-B445-75CB9FBC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B70BC-86C8-4415-9B7E-AEF64269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FD44-0DC9-4B78-8EC0-DF1EA165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30BA-9E54-4B09-89E5-4F9E4374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50932-3F05-4344-9616-EEA1C20C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BD49-9E1D-44C2-9D0F-29190691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BC0AB-6FF2-4F0B-A9A8-4CD1290E1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427E-437E-46B5-AF11-9BCF6A0D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8C388-E679-48C4-9A4F-8DB185A0B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E171E-2CBB-4FC3-8E26-6AA2D455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8C06E-DD34-4E2A-B92D-8CD26303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C3CE2-CAC1-4CDF-8007-4FA991B5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B9458-DDD4-498F-B341-48106188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CFA58-7694-4E8A-AB41-54CE4CF1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D6D39-5C71-456C-925A-2A3CBEC9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28356-150E-4798-8C56-FABABA15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31669-40CB-4512-A695-E0E1EBFF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D875B-98FB-4217-9281-61FE5A34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CD066-48CB-415F-8669-361E80425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65CE6-B346-41DC-903C-297E9A7F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FBED0-CE97-4AFB-A867-5DDD21B3A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972F6-2874-483C-9BB5-4701B85B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23CBA-C07D-4A5F-B936-A3061D03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7AE62-BC45-4493-9504-271F4794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1F9CA-9FFC-42B3-A21E-47A6F18DC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1F948-27F4-4534-B3FD-D7883499A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AB8FA-B6CA-4233-A9C9-B4CB7745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F4748-1CB3-4F7F-B358-E6A7A1AC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015A2-C3A6-4DE8-ACCD-192E8D34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62154-E081-4D28-B447-F040CD3B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CC17C-94F9-4635-B0DC-F24948542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46CE0-8DFC-4049-9FB9-15994BE06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E76D8-4618-44AB-BC97-5CBFEF091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3E627-F47A-41BB-BCE1-BA5C42D5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0AC5E-FEC8-43DA-9736-82B90884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98570-3B41-47EF-A60C-36986703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2A198-58A8-4B35-9E53-544736E22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B2395-4E2B-4C45-8DA4-D74D3FB7A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260BEE-E2B1-4D13-9CBC-5F2634BE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B3473-3645-4B95-8987-64F82BB8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6A646-9972-4AEB-A013-8D15EAEE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15A0A4-91EB-4D6A-BF3A-D969FD59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B655B1-B3FA-4A4E-AE9D-3EEFB512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A64B4-F3E3-4344-AF55-3FCFD89B2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4136ED-99B5-47C0-B7B7-702CBEF62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4C0DD-8EAE-4292-9BB1-4CE959A5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1E75B-1F94-473B-852F-DBFA2762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2EFCA-E8B1-49DE-93B2-56B79F970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74E03-2D29-4A83-B347-D3F48BDA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56CE0-4DCB-4377-BCBA-29FCA1485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C6FAA-1668-446B-A413-E0C1E5D1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97E71C-F7EB-4B0A-A612-B228B31F8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16A85-0321-4A1C-BEF6-2B666556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376C7-5CDD-40D9-A6BB-327A413F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0CAEE-D81B-4D83-BEDB-22BDD37B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0C456-93DB-47E8-A1DF-BCC1EFD52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39636-7378-4D65-9936-0536BDB4B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36F37-071A-4A4B-88DB-E61F6E14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E0E37-03D6-4DEA-A0BD-926E5E889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2B846-52FE-4299-B7C8-0CF787B0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C5F4A6-6FF7-4109-B09E-A2726FC4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09786-FBA4-4D40-B165-41C828F5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22860-52F4-492B-B976-99CD6A6F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10A6B-75A1-47D4-9F10-4F089B90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0CEC6-4262-4985-A724-A835B762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E7BAC-14E2-4BC4-9ACC-8ABAFAC4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CD61B-3EBC-474B-929D-81AC1B24E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7D164-F50E-46FC-9A96-0950FB57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CC352-4530-4F7F-8F89-81FC5D19B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CF8CA8-D76B-4533-8F51-AB2AB6F9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16231-3F8B-4CA5-8D8A-BF63115CF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625CB-542B-4175-8590-017EF39ECBD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6328-EFD9-4364-B8E5-D9366D73F9C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6161-7F39-43FF-9708-4B9539602CB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9188-2193-476D-BAF7-2BED2551BD8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0812-4A09-494F-84F4-352EC7A812B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ADEA-3947-454A-ADBD-1B624562152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6036-8FFA-4760-9018-4F5C7A09FCC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388C-9520-47CD-AB08-9F1257BC9BB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AA5CB-B9B3-406C-9D63-0298B091945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24E9C-D89A-4B90-A92D-34EA6E37294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5A77-0CB2-4372-A847-E460C40DD4D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24000" y="2565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are God’s plans for the world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’s our place in God’s plans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108000" y="2421000"/>
            <a:ext cx="871200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salt and light in the 21st centur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ing the character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owing the compassion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ing the message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12Z</dcterms:modified>
  <cp:revision>10</cp:revision>
  <dc:subject/>
  <dc:title>PowerPoint Presentation</dc:title>
</cp:coreProperties>
</file>