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2D158-C35E-422F-91B4-9155DCF0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8FBA9-CDB5-4BFF-B290-0AD19B28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BA556-7EB6-407E-8B12-52AAE157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ACF31-248B-4B51-943D-800BAC52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173C6-7AA0-4812-93DA-A2A397E1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BEABD-B3DF-44CD-B0E4-EDF7F636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B510B-8D0C-43B8-9E5E-CC68CFE3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0E22E-05DF-485A-A597-2D5BB12D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78338-DCCE-407B-A23E-27BF73C1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349CD-F80F-4E7B-A647-32850C78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0B937-0680-4B50-8FB2-109515D8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577E3-6711-49C7-9966-E0DD64DD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5C15E-6927-496F-BE6D-49FF4CB1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13048-3026-4066-BB92-01B7F8E4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A17E0-A75B-46E2-A7C0-EF213CFB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FEBBA-F844-48AC-881E-50B733B0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EA13E-79C0-4EBB-9F70-1EF209FB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28FE0-2EE0-4CBE-ABBF-2D6C01F1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D6674-2E48-4DA4-BB52-3E869EBD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4E6E5-5BF5-4960-9386-E41FC317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CAD01-C172-4D88-A463-B0BEDDF2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2B1CD-26B2-408B-B926-B3A7DEED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F73E2-7231-42B5-B026-6BD8E705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2D5BA-99EC-485F-BFAC-00631FD0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23247-CE19-4CA8-87F3-5F769222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ED6D1-6B14-4806-8375-0C3E6946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C9567-2007-4EEA-96FC-F60C832E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870C3-CBE3-497D-ACDA-25C6C964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D704F-9D27-49B6-A49F-8007A83A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13A67-0EF4-40AB-A74D-D278AAA6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0EFD-FCF8-44EC-8F28-A949722B3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E93A3-6009-4739-B5F7-91973301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E381B-C863-4918-A25B-08BAC11E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D2D5C-1842-41DB-85FC-47C0E859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8FCC2-5ED5-4560-A3C0-586C01DC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6F74E-29F9-494B-84A1-921DCB74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BDC08-E242-44DA-9AF8-15793A18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7136D-9B31-4211-8AD0-F1FAAB8E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1B7F1-F61D-464F-931C-C497FF48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86EA9-35CD-4C04-A92E-3B5E3474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2DDC1-CA01-4447-B46E-3B374DEB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F052-D3AF-47C2-96F9-E255C763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A6E4D-7B35-4F31-BEB3-939D3689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46BC3-6E55-4AB4-86A1-4C090DCD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DD70C-250A-4018-A4DC-E39BD7A4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5A9B4-53D3-4C54-9755-BCD52EF7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AD67A-4E3B-48F1-9F3E-C3621073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AB86-7CED-4A57-BFE8-4A7FA137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653A-F7B4-45B5-8D32-FE7263B1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2A37-EEC6-4B03-845D-2E78A021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634-7CA3-4086-9538-2B196ECD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F4E5-39BF-442E-9966-1883458F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B2DC-C802-4B6F-813D-2E1ECFE1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FB67-4C88-421D-9A20-A8519783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9968-A641-4174-A6C5-50DE196A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7FB9-2B00-4F19-87AD-79BDF71B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8C01-0315-4EF8-8D6A-962B9538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1D70-0310-47CA-95C5-4E41C06B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3554-1EE9-43D0-881A-36B076CB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6A2D-D97E-4591-B0AD-8C0B041A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67A2-9328-483A-8E21-1F282410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9132-1FE2-47FD-9C35-93A2714A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2F8E-F8E5-4EF3-83B1-4EA98EF8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9DD6-E298-459A-873B-635BE16B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091E-3543-4324-8EBA-2B6947E1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7344-05A2-4757-AFC7-F21E3CC2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36F2-BFC2-47BE-8FCB-B0C04AF0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01E4-4EFA-4B8E-9345-17B5B341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64FE-A672-4406-8E95-8E596F4D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971D4-E8C5-4C54-8273-CBE6865D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12DC1-7795-42F4-85F2-CD9C3157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1B205-BBBA-43D7-A092-8041EEDC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B7D77-C187-43AB-B109-5A9C2639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9B2E7-3C0B-4CDC-8540-1FD5FBD8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E66C1-3D31-460B-8A51-027773C7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53D04-FDE8-425E-A0E3-B76FE798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5AB9D-AD9B-450C-8CD4-15DDC977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026A9-4B65-49B3-B8E4-01669495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D8A81-DA57-4F1D-9EB9-D0021672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0F40F-3B53-4BCC-92C0-1D56B66A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B801B-A72A-4328-9B92-D475FEFA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78A4B-5DC7-4694-B901-ECB2ADB0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9523B-0BFC-4187-97A0-B7208FA5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7D5AD-A765-472D-8B42-A1D97D0E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E40D5-1412-4792-AA41-840AD99B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8FC42-29D9-4A07-8FAD-C0EB3EFE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44A61-5AD8-4BC6-A9DC-F2D967C5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566CC-16BD-48C2-BCB5-EA1B7EFD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FD2A8-0579-4E7A-AA4A-7FF6CAD0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559E7-5A85-4018-8DAA-2D2D3A58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D29F0-E5C4-4591-B3D6-61C2C011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F9A85-62E8-4D05-A3A1-CFC3022E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DD8D9-8FC2-433E-8570-BC799969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5825B-D87D-42D7-884E-37BD3EAA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192C0-B51C-491C-A836-5B80606C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6ABE3-0FB1-4B43-9D51-94E60ACA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66B84-530D-432A-9E84-265CEEEB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B098D-6B30-4BD2-90F2-74D09D42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8F808-E38D-456C-82F7-C3FAD08C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D71A6-A8F5-4792-862F-20146222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FFEFB-778B-4014-9568-AA3AD9B8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FEFD5-A56B-4E92-AF95-6E0BE950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86CCA-DBAF-41A1-8CC4-A3C6FB97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E3FE3-98B6-48C6-BE12-BE7D92C6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19B1B-D02C-4F6F-90FD-E79A92A8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16EE5-B85E-4DBC-B739-4FACC9F7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0BF23-DBA6-4B26-917B-C34662A2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3C87B-5E37-4F79-9E22-1A70D20A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09EC7-C0AE-4EF5-A30F-BD9FD03A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78647-2A3D-4E49-9800-1A6DCF06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9B5F8-BAE6-4D26-A4A6-F22407A3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E21C2-856D-4297-A9CA-83891364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6C075-3EAF-47F7-9A45-C5C89014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D18EA-0D15-4284-8989-4B8B9C46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AD081-882D-41AE-9288-3A0E87E0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F333A-9830-4A0C-BFF1-9D239875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98AD0-963D-433E-ACBA-39D30763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9B2A6-52DA-48E5-9221-89291A42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66D68-ACF7-4546-95FF-23F1E56C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3779A-EAE8-4C48-A3B2-C33D5B2F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8DAAE-4896-4996-ABA8-81798DA1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D7F0B-9B21-48BF-987D-A7154085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8A4A8-4247-4244-9E04-02D7286E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E2271-7353-471E-8B5E-C44B8FB9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10BD8-DE1C-4720-A692-7C02418A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72B39-5B8C-4263-95D3-02BE6655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CDDA3-99A1-4ABB-99D2-9F99560F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13EDC-FB5C-41E2-BBDA-CF082E30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661CE-C3D5-4AEA-BFD0-2AAC657B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B3EE7-CE41-4A0C-A12C-036CA9FC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EEDDF-79F7-400D-84A0-F2581DC5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64211-632D-421F-9141-BBEC2390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0C89-C7B3-4185-8351-839278F67FB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C2F7-1C5B-41D1-BD8A-65E985335C1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6847-834F-429C-8AA7-EA9630C95A3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5054-B1E1-4318-805E-631DF4CA431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4495-9100-4B73-89D1-43F2409F989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2208-73D1-4B0C-A79E-D8D7438922E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C068-9EF9-4097-A474-AA8CAB246D1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FA84-BA9D-46A6-A39A-F53E1653886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EBED-ED50-43E1-98CC-43C0682AF2B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77FF-BEBD-4586-BB32-6DF3B6C4673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B12E-0342-4FFD-91D0-1D4C6DD2658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24000" y="2565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are God’s plans for the world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’s our place in God’s plans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108000" y="2421000"/>
            <a:ext cx="87120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salt and light in the 21st centu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ing the character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owing the compassion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ing the message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12Z</dcterms:modified>
  <cp:revision>10</cp:revision>
  <dc:subject/>
  <dc:title>PowerPoint Presentation</dc:title>
</cp:coreProperties>
</file>