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6B273-25BE-4152-9AD0-A85C4FE8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D075E-921E-4272-8DAC-8055B931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D70C0-F8F1-43B9-AE93-AD530B8B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4DADB-F6F3-42BD-99C3-97798C4C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63B2B-5784-4CA6-A1BF-718DA5AC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B198C-C4F6-4934-98FB-BC2A591B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EC7B3-0B97-41A7-B2E4-63F9A7D5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BB606-1F73-4A10-8194-21B228E59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1E73E-F38A-4AC8-83D8-32F4A1DF5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810537-6D0D-48AB-B425-27373366D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336F7F-0163-4DEA-A87F-3385F8EE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CE196F-1379-4E1C-B2AB-485BCFB7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B66B0F-8A27-4337-8B49-C3DAE7A2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F57305-F012-401D-8D5F-235A3064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0DB87B-4004-400A-BE08-9EE4AA68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3DBC13-C51A-4027-A865-100FB4DD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E38A2D-C7D1-4F34-899E-B4BAC0B6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74279E-D263-4E2A-95DE-2F53A068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13F19C-4C32-4B4E-BDE8-2FB6DBB8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39E30E-C13D-47DB-967E-FA727F3CB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38428E-EB0F-47EA-8A03-5BC7E15C7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50B6CF-B3A0-4C1B-8B97-B75FF042E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DB8C33-875D-4131-BA5B-ACE3AE06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2919F5-AB0B-4CB6-833A-498EB3F4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F162D6-0CB2-4F06-B772-A35F135A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19189F-8531-4501-8035-7ABD4F59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44E4C4-A779-47B0-ADB5-613CF502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D9412A-45D5-4C5B-B713-DCAE6831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A08316-AC3A-4C64-9DF2-D792A1B8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12F94A-F83D-4A6A-AE0B-61952505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1705-8150-4BC2-8AB2-92511F19E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CDDB5C-62BF-4F2D-BEC1-C2F3A9EF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C9D839-96C5-4D80-9F7E-FE0896F43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3585D4-2D26-4076-8892-4A78CE72F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7AB4FF-95B5-434C-B9B8-7A6952E7D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4DAAC-B37D-4381-92D4-5176451D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94A5FE-4F00-4415-A69E-0786B98A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3142D2-AC8B-4CE9-A4E7-874272AA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96EDF-5107-4190-84F0-7CC67C45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E8B27-BE01-4EF4-A6C1-2AEE7480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5C27B-3F83-41EB-B9A6-2B3B102D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6E64-C516-4EB3-8F46-9E77BDA6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D46E40-19F6-4607-9A3B-4BD2C421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53F65-0851-475B-A23B-4A59010F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DF410-6D7F-4D33-92C5-DC7A236F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21166-83AA-4495-ACE5-709E5A2AB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1359D-20FA-47E2-B02E-90F190120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3BEF-DB19-43BC-9D8E-097DB003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DA79-24DA-41DD-B5E5-F619610A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6272-CA92-468B-B343-0CAED0E3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5A39-7580-43AA-BE71-F3E490F6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3D28-9553-4F91-9DB5-B35AD7A0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B8E0-8674-4340-8670-831D9E22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4E3A-7F00-4C0C-A299-3C7CFDD2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C213-848B-4ADE-95A3-1089EB6C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924C-A6B0-404B-AB5F-394818098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62BF-E25D-4956-81AE-FD5AD6547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98B45-539F-48FC-B7EA-A54F07EEE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CEBCF-4137-43B6-9536-B8FF1ECF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4A58-CEB4-4768-8711-7D2BA95B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10574-78CD-4C2F-A1B9-8A7BAE8F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490B-F2E0-4D67-8D72-E83E71C8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E411-7A30-4965-B464-3826EA19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46B1-B19F-4B1C-A80B-859B6C51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D2278-38CD-4685-B55C-0B60EDD5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11AC-6DA6-423C-8872-27ED596F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DBD8F-626A-4CAE-A48A-4AA0C03F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58602-A9A1-48AE-88B8-A331D1D14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CD41A-BB80-4442-904A-13409147D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1D049-6E37-47D7-9EC4-1629A5842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97343-3DDF-4FD4-ADD3-6F356189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441F8-9EF8-4B3F-A396-BDFBA8B1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52CC1-38AF-4293-B10C-FA7133EC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E5827-12A8-4C57-954A-2A5E17EF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F587A-D14A-465F-8577-CD73B3AB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F42D2-D04B-4724-BCA1-837B5839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F6405-5A11-4085-9D4C-7E4C2EBA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96589-06F5-4A99-877D-EE281325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E2198-9579-4EC3-A4D1-02E301F3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8182D-1539-4F21-98BE-FA6D02605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67227-783B-44D5-ABC1-7D575CD77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FAC92-91EA-422F-9F2B-9BED73C15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19A15-EDB8-4EC3-85EC-DECA3B60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EAE20-14E4-4E8A-99BD-EDD97ABB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03B76-2283-4123-B9CD-359AD8ED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4D97F-FEDF-4BB8-8FB9-BFFDE98F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BB5BA-E523-449E-9FD1-C3F86680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97776-5459-4EAD-9698-B8DD7BB5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D7706-1902-4BC3-AA0B-66A50BAE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5D1DB-F465-4BC0-8740-9C2E03D3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DBC63-659F-4773-9D5E-195651B0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6F8A8-28E0-4336-B8C5-77671EBAF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704B0-309D-49FE-9F10-D5F474E0F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E2064-C34C-4435-A672-399973AAE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9B1D8-7597-4A3E-A775-2ED7943F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E1BA2-32DF-4EA5-8799-48F83B8D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43A62-4C7D-4D09-B717-F6AE6FE1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9AD76-151B-4A8D-90C3-6FD3861E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9DACA-8442-4832-8B68-2E156AF1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26655-2180-44D6-AFBC-9EED7EA6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5857D-AA58-47E3-98FE-99092E1B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FECDC-314A-4907-A18C-B929D455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4C3A5-A1C1-4CA6-91B3-735AC8F4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C9C7F-97D9-409B-B117-186C714D7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5BF47-9EB6-402D-BB1F-003A82F1A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0707A-1BE3-458C-81D0-B587CB9EE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B78DB-F8DC-4C6D-BB36-970E0839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4D62E-8905-49C5-8EC6-7A610527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C2AA7-4C0A-430D-B60B-66845F8B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E17E0-F618-4507-9A5D-FA40E48A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21E71-D7DE-4CDD-B5D1-08878BBD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1AF79-C830-4F6B-BA0F-C18832B9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8E0D7-8234-45DA-86A6-33D9AB72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791ED-F9F7-45A5-9AB3-A2F2A7F7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5A135-D37B-4E38-A863-03C04206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F1533-A255-4C42-A77A-0EE810BE2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AC2C8-C014-4FCA-A443-98871E55F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B5C5C-75E9-4758-AD02-153223423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06EBA-B7B9-45F5-A81A-E369DF0A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B64BA-9AA8-49C4-A693-F78902DE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8D903-B508-48F1-AF8F-244F7369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EFBFD-1994-426A-ADDE-1B53C13D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9BD2A-D951-4424-AE22-17442558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A5869-CB0E-4AE4-B7D5-A45599BD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F852C-17C2-458A-9BB5-D5201D4A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D765C-FAA0-4986-A4B7-37009D84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7B056-2762-44E3-BA8A-AEE5CB47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16C2F-E0BE-46C9-B933-61038582D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CB028-E719-4E19-8DE6-3F2E52D49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FCF5D-F2B4-4446-A855-8CBF2B568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FC781-44C7-473C-83BE-2B7A80D3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B7D47-96BB-4EAE-A1BB-1FB55AB0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12BA-D34D-4CA4-B5FD-EA90EB41E1D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BA13-5B9B-405C-873E-EED4C2C0C58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BC5F-E203-47A8-8AEF-902E5317EAD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4DB1-8C95-4012-9BF1-F22D3248B91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6F69-2966-4E4F-B3F7-3FEB0DD62DC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AB4C-CA7A-4AC3-AB49-7686875C27E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E6B7-DD8A-4B96-BBEB-30ACB9A3C7D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00F2-191E-44C4-A413-1BC7CD6D2F1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DAEA-48FF-49D9-BBA2-C3B72C0EADA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B7E9-70C1-4D7A-9BC7-C8A01A52E68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2130-A71D-4690-8F86-D244176117E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609480" y="2214720"/>
            <a:ext cx="79614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895400" y="500040"/>
            <a:ext cx="539136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660240"/>
            <a:ext cx="578664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3786120" y="428760"/>
            <a:ext cx="2500560" cy="33336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2" descr="\\genesis\Mission\Refocus\Refocus Images\ManWithBoard_Blue.png"/>
          <p:cNvPicPr/>
          <p:nvPr/>
        </p:nvPicPr>
        <p:blipFill>
          <a:blip r:embed="rId2"/>
          <a:stretch/>
        </p:blipFill>
        <p:spPr>
          <a:xfrm>
            <a:off x="357120" y="428760"/>
            <a:ext cx="2500560" cy="33336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3" descr="\\genesis\Mission\Refocus\Refocus Images\ManWithBoard_Red.png"/>
          <p:cNvPicPr/>
          <p:nvPr/>
        </p:nvPicPr>
        <p:blipFill>
          <a:blip r:embed="rId3"/>
          <a:stretch/>
        </p:blipFill>
        <p:spPr>
          <a:xfrm>
            <a:off x="2286000" y="2500200"/>
            <a:ext cx="2982960" cy="39769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4" descr="\\genesis\Mission\Refocus\Refocus Images\ManWithBoard_Green.png"/>
          <p:cNvPicPr/>
          <p:nvPr/>
        </p:nvPicPr>
        <p:blipFill>
          <a:blip r:embed="rId4"/>
          <a:stretch/>
        </p:blipFill>
        <p:spPr>
          <a:xfrm>
            <a:off x="5857920" y="2595600"/>
            <a:ext cx="291132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43:21Z</dcterms:modified>
  <cp:revision>10</cp:revision>
  <dc:subject/>
  <dc:title>PowerPoint Presentation</dc:title>
</cp:coreProperties>
</file>