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B90C2-854B-4743-8220-20A424D2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6E6AA-DB78-4D1E-BBBE-3F6824EF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DBBA2-65BA-4D9B-B56C-FC52678A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D5165-38D2-4091-B5AA-398D6133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2E31E-70E2-4DD7-A7E4-EC384220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5FE49-6D08-44E7-B886-3B446836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EDE2B-4064-415C-BF70-B6E96167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99C1A-9DDD-4831-A1E0-C7B4DD49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621E8-A018-4510-BABF-EAC317EB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FA8A1-516E-4405-8EDA-6B67B832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AE7B7-BD41-4B27-B734-6DBB05F0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D7158-602A-48A0-B378-66C59A4E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019E1-1626-4FFA-800D-A275C4F3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02837-C89E-4B5F-847A-003AE771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F2EFC-1212-4BDF-8D82-B5A1FEDB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79C95-623E-415E-A255-BBFBF537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8FA9B-8D87-4277-9F76-47789FA3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8F4B7-FC4F-482F-A1F1-5916C43F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89A71-6B90-45D0-9BDF-9AFD46B6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76F9F-52D7-4C3A-B1B9-A772D5DF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DAADF-7664-4B72-AADC-9FC81FB7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EDE55-94AA-434A-BA87-69A6B08C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7846E-9385-4449-B9E1-8DF3DA03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2EECE-3594-4AFF-AFCC-8EA6F8F6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0E72B-EA52-4C31-9C12-E9447CE8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A4E7E-F726-4EFE-8F10-31EE9CAF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A10A8-7CCB-47DE-A49A-287E9CC5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A47F9-FE9B-47E5-8215-16E7B4F6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1C735-9BFE-4888-A3C6-40F32B00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C839D-E898-47D8-9DDB-3A93CCA2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6010-C381-4466-A30D-0B959F9C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A53D2-544F-4ABF-9636-5AAFFEFE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0DCED-65CF-47EE-9126-666A8012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6867C-8530-415E-AC20-99A812B4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9288B-5AB6-4D31-B90F-4958B1AF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356BC-D765-451F-8895-4E036A31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B4126-61BB-4FAD-B71E-DE8BB603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11E25-EF3A-44B3-912F-3A12995D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C07EA-DB62-40C0-B481-9E17D400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F352F-B5DF-440D-874C-29C9015E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585A6-78B6-4716-8549-9F931C53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9DDF-3EB8-475A-A105-56B14CD1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32D0E-6CA9-4EB9-8E67-3F012170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0C5F3-7FD2-47CC-B7CD-992DBADB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669EE-1E9C-4A20-8C47-9233A47A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25548-F161-4476-8E89-025FD2F5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80D52-1E3E-4F28-B957-D1F24E8F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0FFF-BA34-4EAA-AAF7-6A448762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94D2-A7AF-4205-8D29-3BDC5793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A9C7-40F9-40BF-B118-2BBCEB22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CAD8-94DE-4547-AC55-0C97906E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CD8F-B835-4977-A8F4-199C46B9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65C6-F297-4547-8D21-3B1BA449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98B5-3446-4120-BD33-C18893CF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9895-787A-4AAC-9631-D1F68043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676B-4F8F-409E-9D5A-E9366623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A96A-86CC-4BD9-9A54-560ABC1E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1A74-CDE0-45B9-A2C9-00A7E71E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6A7D-62DA-438A-A5B4-84F582CF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BE04-65C3-406B-B7A4-02152B4D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44A9-36CE-4C3F-A753-8FE588A6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BDFA-EEBE-4AAF-B4D5-5E47B921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9848-EB5E-45D2-897A-378C32AF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0F9E-F1D7-485A-B833-308D4271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639F-C639-4A18-AF08-87F2FD55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514D-BF6B-4865-BB32-4683F39B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952C-A815-446B-B6D9-359A5CBC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4230-0FE5-489F-863F-8300DB97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6184-7F11-4BEF-8854-B9E050DB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FA064-B797-4DDD-8CBF-084FE351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5E871-37A4-4C57-8FAB-9E6D22D2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7F30A-49DB-40EC-BE89-0A9AB741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1D41B-DFC3-41C1-B4E9-EE6B42B4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1A96F-896C-4290-BA28-C5AEF9A0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B983A-F2E0-4F98-9339-874581BB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0C86D-D36E-4231-BB15-7FC1D572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0A921-D8EE-4547-8CDE-21A7C7AD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C224D-FA13-4C2E-8074-CD6DD135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7B127-D9A8-42E6-BCCF-EE63B55B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E2AD4-646E-421A-A583-4D81769F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39C47-CE14-4D6C-AE68-B2FB2943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340D8-468F-4877-BED6-65CCCC8F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D2DE1-0ABF-439B-9B45-B5959C40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6CCC9-3D25-4BFF-8B57-D25E25F0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76FAD-5690-4F33-9AD1-D164BB51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E5F10-B800-4EBA-91AC-7247CB85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9354A-5B59-45D0-8514-E51A42C2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3127D-ECB5-4FE7-B700-32C0EBD7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A57D2-63D4-47B9-A64B-D86359F3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B8FB1-C76E-49E0-BD56-AEFB84DC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34B0B-5C62-495F-A0F3-70A267AF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AD831-254C-4D6F-BC8B-4C51B328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D356E-7595-4FD5-A949-FCA0D0D0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2B877-7E98-4541-911E-96F0F671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FA068-FE98-4042-AD1A-93872B18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5F1FE-EEB2-4565-ADE7-CBE050FA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854F7-BFB9-480A-8E85-1D34C8AF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F2CB2-C053-4220-9A64-D7544C80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1C589-D3C0-4DB4-960D-C9EA7283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48ED6-44FD-4782-B226-1C912754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BAFC0-2FA8-4ACC-92B6-E707DAA0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F822F-7DB0-47ED-8A13-2E1DC313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F5F73-463F-4357-899E-DB3D5DA0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8EE24-C19F-4DEF-8DC2-06201C05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BC527-6510-4125-8229-2098176F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E3541-2D58-4841-8598-7292A3BB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3B623-A329-4299-BB23-852973BC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3EF44-EE14-40BC-A0EB-64804D05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EEB75-5FA6-4412-8D70-75B6410E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BA94C-6282-4423-A5D7-9814C8B3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77D56-BC73-4D61-9108-0C07337E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1A9CC-1C30-4FB7-BDDE-98653739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AF5D5-AC31-42B1-89C3-65DAE6A3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AD86E-4F7E-4CA0-83ED-1AEBD6B0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5FA8C-2D33-44DB-B3DA-C071FDF1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8F9E6-2D47-4AF0-AC74-960048ED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EB330-79C0-49D1-8695-E481670E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1993F-5302-4CDD-90B0-ED6D36E8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A4E5B-8B17-4450-9C23-4F0171DE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C0E98-2C9C-4E0D-9FB3-8511E77F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96742-0069-4666-AE35-0C94FE0B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8F34F-BBD6-40A9-B4B2-7249DCEF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E33D8-9AD7-4F08-98B8-DA1992F3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C61AC-D139-479A-9892-A7BF0B14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244CE-B680-4DA4-9614-5834F58E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E095B-75CC-4BBB-B6D4-F5C487F9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8CBCD-C390-4618-833A-058EB549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2EBA7-C841-4566-BA42-6A5D5D6C0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2D480-5024-41CD-AD1E-C841A779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E14FA-30EC-43CE-887E-9A0DC3AA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C84B5-0D34-473F-AD14-E26377B7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64A34-DD10-44F8-8500-C84D37EE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75A1-0BA9-4938-B8ED-5D8A944BA6B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E81C-5B31-4067-8863-91C9E75A67C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A596-8E66-4777-90C2-3A76F7E5F50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D175-7EF8-4253-BB33-6F677BEE056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C3A8-F1CF-4D7B-B8A9-266A3A939A4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DBD8-9F8E-41BF-856C-D04D43E4A1B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6C3C-E2AE-4308-9C0E-87D63A51777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1529-7C95-4EA6-BBC7-BD582E9EEDA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FF19-20E9-4DBF-9E3D-F9D9AA463EF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B11E-C1C2-4CE2-87F3-87E40704FF4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F902-A1EA-4EF8-9DCD-E112DA63EF4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1844640"/>
            <a:ext cx="7712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ithin the last 30 years the world has changed dra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change has conseq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‘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Insanity’: “Doing the same thing over and over again expecting different results”</a:t>
            </a:r>
            <a:r>
              <a:rPr b="1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(Albert Einst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611280" y="1844640"/>
            <a:ext cx="76406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observes the culture surrounding him (v 16, 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preaches in a different way                           for a different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Our God is Lord of the ‘different’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46Z</dcterms:modified>
  <cp:revision>8</cp:revision>
  <dc:subject/>
  <dc:title>PowerPoint Presentation</dc:title>
</cp:coreProperties>
</file>