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575D80-0383-4270-B363-DA3E7FB5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444F0-A105-4E8E-9FD9-C350A578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0059B-636C-430E-B7DF-C7AAA96B3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6DA07-F34F-4ECD-8FDD-32CF7882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65E27-B105-456A-8183-19DFE0CF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6FE6D-F04A-4D8C-9741-C769EAC8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BE9B28-7405-49F0-A2EC-56D7CC02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A43C8-19E5-46E9-BB93-85444EB1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8C3EB-F3F0-4F5F-AAB7-66C6D6716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4B3AB-B7BF-4232-95B4-9843ED25D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23937-C214-44EB-86AA-92E18B8D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97B4C-566B-4414-A6AC-AAB6B0D4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5150B-E762-48EA-BE25-C38829855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5920A-96A9-4116-ABDE-9807D07A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E7480-579C-41FC-9113-5F018749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8EDF2D-45B6-41ED-BE89-8D74646E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49E9DF-7A44-40B9-8445-5876F4A2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55EBDB-BA97-4C0A-8039-084F53DE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970532-9C3A-4EEB-ACB5-4A87214D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5A9D8-B57B-4E63-A3A7-8C469B5ED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D4C9C-0FA1-4A90-B46D-9D0AEF144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F97DE4-61E0-4D6B-8936-D87A09383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05BB3-7B03-40B5-A530-EBDCD940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ADA16-9132-432C-A378-738FBA26A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FB21C-CD97-4D75-BB2C-3C2A97FD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29F93-4674-46B8-8351-4E9FFFF3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8249CC-4744-43D7-A485-C1B8AF2C0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6F8E18-FCB7-4BCF-8D06-4FEB3A8E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0C280-C38A-4B4B-B4E1-58C314E9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2446C8-9352-42D7-99AE-5F86D0B6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E55A-2AA1-4DAA-9136-7DB794129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C6F1A-B9EE-449E-BC74-6DBC83105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56CD4-6518-4F99-8DB0-635B27787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958ED-DA82-479D-A3CE-F9DFDEA3B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5AC969-4110-4B58-A3E1-FB68E36CE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209D4-8F01-48F9-8D84-E22804095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E16902-379B-4122-B8E4-6B030CBB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5919E-AB03-4DD8-BE91-81B352887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F4771-D3EC-4CF7-9C1E-021CF0F3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59192-47B0-4EA0-A736-3A1918EA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61962-278D-49C8-A0C6-B958CCC4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E0A8-A038-4512-BE66-EDA6D3EF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323348-FF90-419C-A9BB-3007684F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AABF0-885C-42D5-984D-3617B366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247FE-0148-48CA-817D-95822C4E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13B7B-6F5E-4C3B-831C-179D9F81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1541F-B9E1-48BE-846E-CAC076BC3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0884-F49C-4FA7-A6E1-781A00B5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468E-8ECB-40D4-995D-614A65C9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71D-183C-44E5-BED2-97AB7B846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725E-F771-4E9D-B607-F6D8996D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3D3D-42EA-4874-A73D-7A158246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F0D9-69D3-4CBE-A4DA-9406E39B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97E9-2E3A-4BAB-A11E-F0BB5261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E4AB-651A-4E71-B0F4-A524C183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D7B7-A86A-458A-A4A8-380371652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066-3539-40A9-AA81-701212BA2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880C9-33A2-40E7-95D4-BE8CEA6D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31AC8-9E5E-4D57-BB8C-8B72250A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BBA39-89E7-42B4-B444-64D814EE7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1ADA-75A4-4A2A-B345-7F039B7C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FE27F-0EDF-4C92-9107-AD0BB319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C933-2525-4649-AE84-72C316C6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7016-E85E-4E90-BEA6-E8B629DA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D1F6-BCAA-40BE-A02A-41613BFB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C1C0-B1E4-40A5-854F-1AEF7A8D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479B-81EC-48A9-B3A0-A34372AE6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5250-307E-4C50-B25F-73EB0947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B9CA-7F21-4D0B-84B2-4EBE4F0B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1B228-3566-48E5-B2BD-1E5739BC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67237-7FCC-4937-B55A-B56B1952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646C5-3BBA-4932-BECA-45626F243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EE556-85D4-4098-B903-A4557D8BB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614E9-3E2A-4139-994E-219CD3A95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8B9D1-DBA7-4CA0-B00E-B649D514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3D4E3-E5F7-4D79-B9CC-95B14E93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FBA09-89DF-4B56-8BB5-2C0FFB24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5C115-7B79-4F35-8884-E79609CD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57786-7B66-4606-A5CA-255626BDC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47B72-CE2A-4AD7-993E-51F139905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342E7-EF0A-4F44-A9F4-64B6A957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DE560-C6C7-4AAE-88E9-7241FDBE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9BE91-2F77-4926-A141-6934BFDA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16FFB-4CAD-4AF3-BE12-28C72ED7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E90E7-2F4B-40E2-BE4C-ABB91F17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B3CA9-CAB5-4B3B-9C89-965783A4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CF6A8-37E8-4526-986F-02A5CD946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8D852-6FC1-4BB2-9B56-ACFFBC26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234D1-B832-4BB9-BD2D-79110DBA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F162A-59A1-4A7F-B323-08D8E14D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BA3AD-FEE7-4D29-BDB2-3AC3AFE5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36CB8-5C8F-489B-A437-653873AE9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00792-E94E-447D-BD3A-8E68C2D6B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CC3A9-02F6-4762-B3BA-3A43A06C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47BDF-A9EE-4C98-87D7-21088015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DE591-F426-4DE9-8A71-AFC64849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11FB5-71FC-46A0-B872-BB0F18C50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91A0B-5DAF-42EB-AD0D-3148833E5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A8330-9BE6-4A32-A74D-B3668273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39A4E-5A40-4DCE-A988-CF909B10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37057-84ED-48BA-9F1C-286DC27D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D48B0-9D8B-4869-9A2F-CC28145E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A3846-8E9E-40B9-A72A-02924BDB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EC8A9-F6EB-4D50-848C-F6771DB12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F0FFF-AB94-4718-92DB-6219C1500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2A02B-05DC-4485-9FC4-59AD2ACA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C9447-11E6-4B88-9B67-8B367CC89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8D2E7-173A-40EF-A796-0873C564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3D61B-59DC-4678-B627-BA5582EE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D8EAC-B492-4AE6-85D5-820F0DCA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BF80F-1304-4325-AC09-1FFC3957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F133F-8ADE-4462-AA0B-B71E64F6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5D981-55F5-4E73-86CA-815319E8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08147-0B51-415F-BAFB-B55458FA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CB6F1-2D5B-45F7-976E-323184CC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A862B-F0B2-47C5-B139-AD78AC7C0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00B417-0C7C-43F1-8816-853A4FCA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4F256E-9346-4015-BA83-CE56AF273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E1BCB-4B02-49DE-9EFF-F14B0F69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D16D1-610D-4516-8AD3-6F8764BB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6599A-C10D-4BA3-A11A-89CA84165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FA99C-5744-42D6-8759-7356BA0EF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ED9AD-9DE3-49DA-A13E-634349EA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473135-7E61-4FE9-9B5F-9B9E7A97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E9165-06AB-4D7D-8E1B-EDF536AB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59FC4-9020-4CFB-952F-4C0AE95A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8B2B0-7553-4B73-936B-911ECAF2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216834-CE0A-4BAF-A5E2-4CD27D6A4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113AA-E4C7-410C-911B-31E46039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854CD-029F-4FB4-832D-D29D3965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0A2FBF-CD22-4670-BBFC-AEA4807AF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5D93F-40DB-434D-AA5C-24C5ECEA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4313-19FA-4F63-A60A-75FD8E74A44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F1D2-64AE-4B4F-BEBA-E8522CC9C13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D828-4F10-4618-B6C8-8D583845337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70DB-A249-4FA5-96B3-685E093C342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E40C-D784-400F-8ACB-438E39475F3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6D25-3225-4155-A866-572031C2432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21353-2A68-403D-8ADB-5A7FAE53034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1342-0009-4D30-9514-6CB7A4CAEC8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FD9D-DE4B-461A-94FD-87812BEF082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40D4-7BEB-48EE-B975-48EF739972A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B132-C4CE-482B-9035-4F55432711B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TCWS1.jpg"/>
          <p:cNvPicPr/>
          <p:nvPr/>
        </p:nvPicPr>
        <p:blipFill>
          <a:blip r:embed="rId1"/>
          <a:stretch/>
        </p:blipFill>
        <p:spPr>
          <a:xfrm>
            <a:off x="1471680" y="536400"/>
            <a:ext cx="62388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TCWS2.jpg"/>
          <p:cNvPicPr/>
          <p:nvPr/>
        </p:nvPicPr>
        <p:blipFill>
          <a:blip r:embed="rId1"/>
          <a:stretch/>
        </p:blipFill>
        <p:spPr>
          <a:xfrm>
            <a:off x="1428840" y="536400"/>
            <a:ext cx="6305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536840" y="536400"/>
            <a:ext cx="6107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77880" y="536400"/>
            <a:ext cx="60264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0:25:34Z</dcterms:created>
  <dc:creator>Mary Parker</dc:creator>
  <dc:description/>
  <dc:language>en-US</dc:language>
  <cp:lastModifiedBy>Mary Parker</cp:lastModifiedBy>
  <dcterms:modified xsi:type="dcterms:W3CDTF">2012-01-16T10:41:24Z</dcterms:modified>
  <cp:revision>3</cp:revision>
  <dc:subject/>
  <dc:title>PowerPoint Presentation</dc:title>
</cp:coreProperties>
</file>