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5DA96-DCBA-4441-A6FC-F5139FA1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D9A19D-7210-4F57-877D-BEACE135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848C1-B1D5-409B-800E-3C1DA0CF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7AFEE-E428-4CC9-A2B4-3ADC81B4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15A6E-CCE7-4078-A8FC-2FAA6309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6671CA-2E12-4EBF-A781-8776B25B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FB46CC-C852-4EAC-B746-B1243313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52089-CAE0-44F4-A0AD-7903C23D5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1CA0B1-E35A-4AB4-A573-2F931B0F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122C3-77DD-4339-877D-84E90816D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A62F3-9A74-4433-AC83-C4934D6F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32FAF-3FDD-48A5-9705-4CA256BD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BFBDE-0150-453F-836E-1FED3B1A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0FFD3-A020-4081-AF80-027E66D2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A76AC-C0F3-43A5-8FF5-620288DA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112C8-B2B6-42B6-BD46-0EAA0315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F59C4-788B-4149-9AD1-990A7276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62F97-F2CD-45C1-BFE4-F9DBDC9F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6F6553-35EF-4EDE-817B-A686BDF9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A5708-0CCA-4B0C-8EC0-D6E7ADF4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07C84-5A64-47EA-9B98-4992E40D1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C15C9-45B3-4B22-9EE0-42E678F7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90103E-0A03-4AAD-98BF-F6BC4112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D5350A-CF89-4BA0-8A28-4455E4455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13093A-8A95-492A-A9E5-A0B342805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7F0E3-12BC-4930-9875-9EEC3DC0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66C13A-6333-4F6C-9436-442A7D84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C3811-37F4-4C0F-A324-06F3EB9F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6FF7C-2F25-46E7-B910-C7781280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66164-534B-49D1-BC92-F595F10B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D2B1-F32D-4F65-ABE0-4AF8402F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46086-B612-46CA-A1A8-FC801FEB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76342D-F2F2-4DCE-9614-0F0CAE3FF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E63175-AEC9-482B-977F-BE55A4049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7D9A6-A421-4B63-9718-5831BD0E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0320F-771D-44DA-A180-FF7A87F5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9B9289-0F54-4952-89D8-F223494B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54A08-C316-47FE-B66A-C9BCD297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A2BFC-F137-460E-8D3E-A21819B2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911F3-3584-4C7F-8789-7098B1CA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2B216-F7DA-44BF-AC17-9DF5FBA2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230D-2FD4-4A44-B51F-E484B8A11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CBAA8-EC13-4F64-BE0F-DD8ED61F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6CECB-AE99-42C4-89FA-9307F4BF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9B76B-54C1-474D-A080-F332CFB7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70F49-2EA0-4049-BCA0-2D358FE5C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82B3D5-7881-403C-8813-49812F89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64EA-C0DA-4B6D-9F0F-00794FC7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C11E-BF02-4A3A-A26C-EBE57B48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70F0-7781-4E87-8088-42B05BE6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4EF8-AEEA-4B0B-AE8B-35E470F24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029E-80FA-4A62-9816-82432045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260A-A02E-4FFC-8A48-CB1366B5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777D-67A9-4992-BC01-6549D5E4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CFC5-A76C-4452-96BE-1162235F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B5FA-3E11-4C42-A823-F4DF36A2D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B2AE-E7EB-481F-9787-0C248EE53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929C-46D2-4185-A7A1-160FFC49E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E1E4-7335-4BDF-9E4F-432B2FBF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330C-17D1-4A17-B42B-4BDBE7D9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5ED3-CDE8-496F-9224-01E200EC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0D848-86DB-4B3F-85C2-BA2D5CEA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979F9-1AD5-43AE-8B4D-7A1027DFC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19AE-A19A-40D5-AD42-559137C8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0A1D-F0B2-48B9-8EEA-B3188E28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8FAB-4585-486C-8604-8618B854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E9C1-2817-41F8-9530-76CA6063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DB8E-8547-42D7-9AC8-5EE2E1693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38A2-3CC1-4AC0-9CD7-84B9E4A5B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6262E-B1DF-4EB3-A95B-E8C7C6FE7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F1ADF-2C76-42C5-8642-42B9D057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BCB81-4A5B-44AD-986D-5060F51D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DB876-6320-43AD-9A91-6EA75C2B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B4305-3EE2-418E-AFED-2A866DF8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92021-BF24-45E2-8D6C-5FE4E7A8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0F90A-8921-40F4-81D8-E1EC0B7F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EDF0E-96C9-418A-A2FF-8AFF8591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8682F-79F5-4E3B-8396-B46FE237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ED287-5F68-4B5C-92F8-92682CCE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5BC4A-3D40-4FC3-8A79-1CB1EC5AF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8F8E0-6DEF-434A-9402-C631C2A2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27A30-4191-4BB0-A2A9-5477BF054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F6469-EEEB-4F54-BF46-BA0A918D3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951FD-568B-4F83-89AE-EA1A9E8F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7BF90-A2E3-49B3-9856-116972F4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D45C2-DEA1-4DED-80E8-49E0AC3D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93930-CEDC-432E-A762-421353A0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0D166-4FEE-4924-B1C7-B4B54D6D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A1CC5-CD4E-473C-B2FA-4986E706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4DF8A-466C-4901-BD6A-9579ECEE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56034-722E-421A-AFD5-15B4CDC3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5C496-2240-4EF6-B2A6-6C60D14E8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DE611-72CA-49BC-94CF-1349F9A31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D4691-178E-4C6C-86AB-C370C9CA8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BA376-4B14-4AB2-AFFC-17470226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D0083-E7B5-45B8-8B48-4B62B054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28F49-2914-41F1-9F2E-F1759DC1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42801-E3C3-4D5D-9771-3F336A896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C042E-7F35-43CA-B8DA-C4781CEE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C1144-7188-42E5-A3F6-BADB5385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F2C8E-DD1D-42BF-8B41-8492B2B8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4A03A-B1EA-485C-AF22-9C1F9C7C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E22D5-2E63-44C5-890A-E2315AA6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8F8F7-6753-479C-B83F-959E1B693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C5FC4-E0D6-4532-BBC7-48277585E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D940B-3A7E-4CA9-8DF5-518B00D6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6C4D4-5A4B-4C44-B7D0-D1AD4D59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E23E6-6D7D-48C0-8B04-BD416038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74931-4F3A-4FC6-9827-B502B7DF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D9138-8868-460F-A17C-A541FC906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70FC5-9723-43BF-A415-B50CBB69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F80B8-9794-4CF1-A12D-D709CED96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E9A1C-63CD-49F7-9804-EF679CB6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F5744-0260-4198-AC23-5B1BDEF9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E84EF-7DDF-4F02-B6CE-90550B37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FFF3D7-5AF1-43BF-84B0-63E5D4E3A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055D1-CEF1-47F6-9290-51B8248CC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2223F-27A9-4C3A-8D1E-4824027BD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80C32-7C74-4159-B46A-2E5C84E7B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7AB76-56C1-45BC-B0BA-13258317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EE5C9-5AB6-4C65-A24A-8B0CE767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3BD3C-A307-4878-AD6F-AC6E03FC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4948E-B111-4717-8730-5C1E85D5B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98982-5819-4150-9C7E-33BDF59E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6072C-F30F-4BCC-8E64-89673C69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E0AED-2FDD-4C46-B936-27B26E1A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7673D-5C64-4BC7-9A65-118E5B92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D4D53-CA2B-463D-BBAD-E4675D6E6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176C8-89FF-47A1-9E55-8D65288F3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7C36F-1CEA-4FCE-8F7A-A53872FAC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4F7272-B478-4DCE-BDE0-424B4797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76486-31B5-42DF-925B-385B1830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D42CA-0BDA-4B6F-BA6E-FE62423EB4B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F76A-C464-4AE7-BABD-21DE90CE7EE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F90E-4798-4A27-9412-8BEF4BE85A8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498A-73B8-472C-8438-46D3EC7A5EE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1237-7371-4862-870A-1BCEDD02CEB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0095-8FD8-4544-8459-71E93D69C90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2C4AA-B1BF-40D7-BFAA-36D9913C440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4335-BC18-416C-82B7-45BD79F2733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6889-634D-4BB2-A5EB-E2F292128B9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5992-5BDF-4885-A24E-B76D3801256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1F7B-474B-4380-B096-FA3A73CFAC1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609480" y="2214720"/>
            <a:ext cx="7961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895400" y="500040"/>
            <a:ext cx="53913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660240"/>
            <a:ext cx="578664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3786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" descr="\\genesis\Mission\Refocus\Refocus Images\ManWithBoard_Blue.png"/>
          <p:cNvPicPr/>
          <p:nvPr/>
        </p:nvPicPr>
        <p:blipFill>
          <a:blip r:embed="rId2"/>
          <a:stretch/>
        </p:blipFill>
        <p:spPr>
          <a:xfrm>
            <a:off x="357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\\genesis\Mission\Refocus\Refocus Images\ManWithBoard_Red.png"/>
          <p:cNvPicPr/>
          <p:nvPr/>
        </p:nvPicPr>
        <p:blipFill>
          <a:blip r:embed="rId3"/>
          <a:stretch/>
        </p:blipFill>
        <p:spPr>
          <a:xfrm>
            <a:off x="2286000" y="2500200"/>
            <a:ext cx="2982960" cy="39769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" descr="\\genesis\Mission\Refocus\Refocus Images\ManWithBoard_Green.png"/>
          <p:cNvPicPr/>
          <p:nvPr/>
        </p:nvPicPr>
        <p:blipFill>
          <a:blip r:embed="rId4"/>
          <a:stretch/>
        </p:blipFill>
        <p:spPr>
          <a:xfrm>
            <a:off x="5857920" y="2595600"/>
            <a:ext cx="29113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43:21Z</dcterms:modified>
  <cp:revision>10</cp:revision>
  <dc:subject/>
  <dc:title>PowerPoint Presentation</dc:title>
</cp:coreProperties>
</file>