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D779B-75C4-45D1-87AA-7436B619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EED74-5137-4954-8AF8-93688C87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32B61-037E-4A7C-88AB-4BCDD9CE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8B9FB-27BB-4D72-B975-9594D53A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AA8D3-3564-4EB5-A488-D0CC8F74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67BA7-564A-49B1-8748-6534BBDD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5EC18-5C97-4B9F-893A-11C78F8A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FB36F-67C6-45F0-8697-A5E9D8097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E107E-FE79-4E3A-BA92-F3122A4AA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FC0D78-BBB4-4E50-92F4-36C9C5DE3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F1BC43-C54D-4A16-A334-133FC4A7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78DC3-7A2A-423E-983C-ABFFE2B6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A121D0-90BD-4D43-8DF5-A5B53F9D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3EDE89-26E0-4371-8010-28D97F6C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13B65-9461-44B5-A8C7-7B7D11F2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33053-64D1-46AE-9FC7-50686E65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EAF0BE-DF68-4D55-9BAB-319D485F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312B25-EE2D-4A4B-A534-55F774B4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C5F6B2-3A98-4B88-B687-2AAF107C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89FADB-1846-4FAF-B12E-31D61AF01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E24EC-D1DC-4F63-938F-B7F8BBF99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7D6B28-D36F-440B-A832-B76767A33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A53423-E54B-4F3C-8067-048DB514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6BEA84-0E6A-4BB3-9BD8-0A802CC4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F36778-507B-4B23-ACE1-396882F7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331FD2-E0FC-422A-8F39-9E29A6FB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DBF1F9-F99B-4B9E-828D-6131DA0F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CF7FBC-0B62-4FE9-8823-2A1092FA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4FCF7F-02CF-4610-A8D7-5B95D427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C41D0D-2BD6-4ECF-A235-6C939B8B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79D8-55ED-4915-96BA-FD9AA347C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E58BF3-AB6A-42EA-9DF8-13EC17E1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F4B751-2549-4E0E-8A1A-D69C24E46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1527AE-957D-468F-9904-01DF91DE6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664F9-98F8-4761-BBBF-D8498E3A0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5BA7F-5F8D-465D-8A6F-9380DB18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0FC3EE-84AC-47C2-B295-B979E44E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0923F0-8F6D-44E7-B505-664E01E0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36251-D811-414B-B0F8-39F7C4E4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899F2-FBAC-477A-B230-CF71206F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11E4AD-B10F-4BCC-B15C-0A3E523D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ABDB-8941-4498-8838-69538C12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16785-B2DB-4BB7-B18C-928DC8E6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A6859-F793-48B2-B156-22442852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20752-491A-4B89-A0BD-92F11F68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8A64B1-0B18-4DF6-99EB-0774B1973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D805C2-4AD7-4D50-B00C-C74332AC7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A5B9-1D8E-42D7-8FA0-18B4F23E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C67D-F68C-4813-A94B-60EF3076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0BDF-1886-4180-9E48-54629687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E237-1A76-4B59-9085-3894BA75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AD20-85A9-48CB-BF5F-992C6939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163F-128D-4933-92FA-232E7C85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FB68-3259-43F9-8BA9-EE3F0EBF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767D-73DE-49DC-A1D8-17C6C3D9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324A-2DC5-4049-9A99-FA8B0C3D2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1899-7CD7-49BC-A709-28D179340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85276-9A1E-4E1B-BB85-AD9D66B99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0B46-23D8-4602-B1A1-6BFB2E75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6A08-67FE-47E0-840C-0DB1E969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E2F3-ADEC-491A-A919-935DA626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D208-8649-48B5-92A3-A46859A5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3A2B-D412-4460-9E24-8747695F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D4ED-8E9D-44C3-899E-A9442C9B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EB419-8145-4603-915D-9C3BEB95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44D2-3E07-42DE-AA0E-906FBDFC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4428-60E9-4FD0-ADE9-67B258550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524A-301E-44B8-80DB-0D7842964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248E-9333-4770-9EAC-45752C9C8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60922-77F3-49A0-9F11-40EAA8077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52EDB-96A2-484F-AACF-E2BFF04F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481E4-269F-40F4-B029-8CB7356D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56216-EB76-4901-8A51-98255661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AA1CA-EB4E-4A32-8C16-A0BFBB34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377B7-552E-4F43-A8A7-473CA2D2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A9CBB-E5A3-4A56-95B1-1C628B4E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7C0B4-9AD5-4910-856A-272A7C78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C836E-AC0B-4496-827D-32F9970B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BC7CE-9DCE-44B7-8D08-80BA5802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F819F-ED79-416B-B47E-2F8CC2E43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C1057-D8F3-47EB-AA86-C86A9A2BB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DE32E-D4EF-46DA-8977-0D20BD601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E7B52-0088-45A9-8D8E-15E98159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52EB6-A152-48C4-9930-2FF8A702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51AEF-2E95-4775-8ACD-A1A1A8CC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FE0EB-13CF-4A9A-86CD-44616819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C57F8-F473-4825-B709-BD837C2B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788CB-096D-4387-ABF7-DF12EC23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6C8F2-B56E-4AB2-9E67-F408042D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7C4EE-1694-48BD-AF52-F8B7BCA4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CBBA7-B331-4C2D-848E-7C382E42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0B20C-3D4A-4278-BB78-EEAD6CB07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61004-8CAA-4314-9CC6-98CAB0611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380F0-7C56-4B84-BA44-C88AEC4D1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D06D3-14E4-4C29-8834-42B351BA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A62E3-C898-43BF-B1B3-33D2E4BC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118D1-1789-4392-9976-A3ABD604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64DF7-4F69-4DC7-802D-65B447CB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6CD23-AF65-4B52-98BD-15FFE411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D4AF5-47B0-4422-AB6F-9D1496AA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4767A-3017-4C08-8DA8-EC3CF140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67565-A2A9-4993-A106-FD4EAFC4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BF6DB-CBEB-464D-9AB9-64BC139C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B9906-247D-403E-B7BD-5320D9FBD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305AC-377D-45B9-8341-1B7DC0339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E0CBA-F3FE-4375-813A-4E30DC0D4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DEEDB-F4E2-4B07-9D29-AFBB619D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24C60-884F-415A-891E-D6C113A0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B59E0-76B0-438F-B681-75AA41BB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17012-C2B3-4CCD-9D1E-CFA054FF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5D00F-B331-4683-9BFC-93B795C9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BAECF-5F63-4F03-BE81-23986ADC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13299-DE1C-4E70-8397-E366BA99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358E9-7D0A-4B0E-8B2E-3A6205ED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5326D-009D-46A3-8E56-11E44862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9DF5E-64BA-43FC-88E9-D96C59BBA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3FC65-A16B-4675-9A1A-959C588D1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6D4FD-E7BB-4972-B2C4-B286F0AF9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BABA7-05F0-4AD5-9870-99EF2DE2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EF0CF-EE14-415A-A870-1F84AFFB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A1B32-BDE7-4108-B9BC-56CAC435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A067B-B657-47C1-9C9C-4F262830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3141B-61DE-4AE6-A8A3-1ACD2DAA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02074-C378-4D90-B6E1-373C3561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59A2F-9867-4970-AB8F-4D5FFC72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B08E8-388A-4D41-BB60-BC420F90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7A3A3-C976-49F2-8462-119C60C1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758A2-34F0-4F9E-B104-165B970BE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90B0D-2812-47AB-8B89-61F56D130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9DB95-C6DE-4532-B982-E74F19301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0C74F-C1AB-42D7-9760-5E373BFB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7C266-29B1-4B13-88AD-9641193E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9B1D-3C7E-4DDA-B4BA-4B1D6360957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A365-81CF-4535-8047-2A04791FFCD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916B-B37A-4CC8-B24F-872ECB8A132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C98E-E362-4EB3-B5CA-98957BBCBA9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9A61-27BE-42A0-920A-674A3792602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BE32-208A-4121-9215-66F04D68169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16D0-4920-454D-8DB0-6A30503A262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729B-654D-41D9-ADD0-AFA7714E294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58D7-836D-413B-BC70-95246F772E2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A7AF-58F5-4DA8-A72D-03BC00EFA6D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86F8-A345-412B-B1A6-0C99186D220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609480" y="2214720"/>
            <a:ext cx="79614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895400" y="500040"/>
            <a:ext cx="539136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660240"/>
            <a:ext cx="578664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3786120" y="428760"/>
            <a:ext cx="2500560" cy="33336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2" descr="\\genesis\Mission\Refocus\Refocus Images\ManWithBoard_Blue.png"/>
          <p:cNvPicPr/>
          <p:nvPr/>
        </p:nvPicPr>
        <p:blipFill>
          <a:blip r:embed="rId2"/>
          <a:stretch/>
        </p:blipFill>
        <p:spPr>
          <a:xfrm>
            <a:off x="357120" y="428760"/>
            <a:ext cx="2500560" cy="33336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3" descr="\\genesis\Mission\Refocus\Refocus Images\ManWithBoard_Red.png"/>
          <p:cNvPicPr/>
          <p:nvPr/>
        </p:nvPicPr>
        <p:blipFill>
          <a:blip r:embed="rId3"/>
          <a:stretch/>
        </p:blipFill>
        <p:spPr>
          <a:xfrm>
            <a:off x="2286000" y="2500200"/>
            <a:ext cx="2982960" cy="39769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4" descr="\\genesis\Mission\Refocus\Refocus Images\ManWithBoard_Green.png"/>
          <p:cNvPicPr/>
          <p:nvPr/>
        </p:nvPicPr>
        <p:blipFill>
          <a:blip r:embed="rId4"/>
          <a:stretch/>
        </p:blipFill>
        <p:spPr>
          <a:xfrm>
            <a:off x="5857920" y="2595600"/>
            <a:ext cx="291132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43:21Z</dcterms:modified>
  <cp:revision>10</cp:revision>
  <dc:subject/>
  <dc:title>PowerPoint Presentation</dc:title>
</cp:coreProperties>
</file>