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74CE60-0C3F-410F-B964-8137C7601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B31FA1-4E1A-4E3C-8A23-C9523C41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233521-BA44-423E-B3DA-FE90D3ED9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7B7DE9-53D1-43C3-A942-584BDC3F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A113A4-59C2-4E15-A250-CADD9DA0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EF63D6-4B72-463C-9D99-F2171140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0D6E8E-67C1-4789-9651-C0E161BDD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60D8A2-E55D-41AF-B2FF-7D159D077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2298A2-AACA-41A1-925B-7A2FF423D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82D6C3-C20E-49A3-AB51-ADF0C886F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9487F2-B073-4EBA-998A-FA64651EC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F9941C-5CDC-45A6-8F28-088707852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ECC41C-E84E-4FA9-B57A-CBAFCFEAC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043905-A120-4E6E-9822-0B8A8E8C0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C5487D-7CD9-4CCF-ADF6-7BC2CA86A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4FA249-B33E-40B7-973D-0CA222DB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6F880D-E3E8-4308-BA4C-968A2CAA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F6E375-EFB0-4A6B-A894-01AB281E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F9331E-E9E3-4A3C-B960-5E5C264D9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86FB62-B65B-4EAD-A438-3C383254F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4AB992-B889-4B33-9A60-539D900B8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BD7CA6-9342-4AB7-AC7E-42F672EC1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27A1DD-0C60-4569-9529-E484B7DD8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945F8C-8EF9-477A-8170-2054FEB0E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97634A-D6A3-4D11-B6BA-876C7638D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BFA2C4-3FCA-47A2-ACA9-D6BAC3A87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7A0329-7D5D-49A1-BCE6-E22DC06A4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8D7AF0-1976-418C-93D5-AFD2E306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8E7E43-E493-45AD-BCE0-F658DFFC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996E73-4B11-47ED-93D1-8CC33A02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3A98-6BC2-452D-9DF9-C45B13298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257502-9F47-4C5B-B7E9-28555ABB3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7A3A72-3581-4FD3-B96F-41DD618E4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205A4D-ADDE-445A-9D8C-0F910CBD9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98CBA3-3034-427A-8D1F-DA36DB1B6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CC2FFF-C2F8-457E-930D-A8439545A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EA19F0-6E0C-45EA-9B83-32E969BA9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1FBBCB-045E-4CCD-A5F5-84896F344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1552AD-15E8-4F8C-96A3-C9D6D3AB9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73D1D9-C78F-444A-8C57-741135581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FF2D92-2C7C-4B0D-90EE-44BE9A92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5B2A-00BA-458F-93B8-82AC5FE9E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EF8846-B446-433C-AEA0-13AED453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DB6382-2F05-45A1-9E70-B6C77A6F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5D568D-A779-4C65-9F18-B170D64B0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085C9D-A0AE-4D41-8AE9-530B7259D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877E00-255C-47D8-8563-E52915608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EC4E-D3D4-44DC-BC12-A35009884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25C1-48C9-4349-899C-1128F76F7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AA3D-A5AE-4D61-A963-492045694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E99F-DC9D-4567-A4A1-3680F5BCF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537E-89D0-48C0-9D74-758C1DB6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CFA4-3DBD-48DF-8533-3F2CE15F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2839-520B-41D1-BD46-2662EF97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065F-C615-474F-A3FE-8CBED797C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5901-3AFB-43C0-A535-6492F0CCC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42EA-281F-41DC-9B49-FC9F76A4E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C8FB5-A967-4433-84EC-B70CACB65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2FEDD-257B-49BC-888E-5EABC3B18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98AB0-D174-4218-823F-6A1362BC3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A466E-1A8B-49A0-8948-AB3A59ECC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321A8-A100-4B7E-9954-588ED562C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0A67A-0ED9-42A7-AA38-9CF47879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01FF5-EF0D-4D70-B3ED-6349E475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9862E-2AEB-4937-8A6A-8C21DACB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931B6-B0F4-47F5-91E2-BCD13993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3FF5C-EF43-4876-A2EF-31DC72AD7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AF7F0-11A3-4DBC-B934-AE4A8E059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C69FB-46BB-48C3-89AE-DCEC6885A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C4AA3-8219-4592-B161-FC3BCF702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91182-83FC-4B6F-8F09-E8B1E37C5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CA85A-1F99-445E-85F3-DA78E046C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F0F4F-D484-4AC8-AFEA-C4982BA0D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918C9-1EB3-433D-B6CE-D1BE69575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2C6B1-85BE-4C32-8838-5FE884274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EA1F3-4A9B-470F-A62D-3C4F2C8B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BAB8D-498B-4E78-A7E7-1291543B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5FC53-031B-4F71-97D7-EBC577E0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B07D6-2DD5-4BFD-9D3E-29438DDBD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B5F08-AE3C-43EB-9E99-BB8C50227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F8B4A-3C97-417E-85A7-8DB144096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20218-796D-40DD-ACE9-B5D5ED1EE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FD7DA-619A-4BCB-9878-B8542CB38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0D7CD-6638-40E4-95DC-4FA82ED19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CC7D9-3E61-4CCB-B5E7-9F59150F9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4E22C-C4A4-4D2A-80BE-2468769B7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1CB06-E545-45AC-AB09-AD07D2E45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32454-11A9-4E7A-879A-699501A0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BA99B-BD9E-4781-A509-80FF7CBA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8C785-86D5-498C-A236-C36DB03C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3B4BD-510A-4D38-9C0F-D0EB990D4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89394-04CB-4491-92F6-ED9D0ECAA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3913A-C5F8-41BC-BC9E-0E9892BF3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FFD25-A158-4A8B-9F26-E6517C618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73088-5BAD-408A-A5E3-952796DD1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7365B-B6CF-46FF-AD3E-E4BDD3E48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A179C-C108-442E-944A-46AE88120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58AEA-F116-4660-AC89-AB76DECA5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10EB59-9E4E-4D9C-9141-ED46B1E41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512EE-1772-4AA8-89C0-00687187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3E729-4E45-4168-88DB-8C37472B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19C32-7C16-402B-8020-E6FDF052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39C18-8B0D-4A95-8804-AECB4CDBC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CF524-C092-420F-BD6D-B508DCE86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287C1-FFEF-4780-BC52-53086B179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A52E9-7601-4E93-813E-52877A90E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9CA8A-5489-4665-9A3D-877CD91B4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CEC7E-0F1B-4F09-BB81-8D8352210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5E973C-D81D-48B5-AB39-64E37CF78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22CEF-7958-4CB8-8518-185EDC4B5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F61D0-9841-45AE-BA31-E889E3B19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B0CAE-AA91-45C1-8085-160DD7F6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67136-1274-401F-9247-DEB40964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5FBEC-5F72-4606-B11A-C28359DB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E81C49-235C-4D25-9825-0CAB05C73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B3E390-0E1A-46D1-8897-A83E5FED0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04504-1962-4D20-A3A8-69BD745E8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7D76D-E340-4F51-9461-B09A2C59F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ECD7B-1107-45EE-A126-04A1B67FD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7BA5FD-A274-42A9-93C6-F66EB2B31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9713F-3233-4B83-A3BC-CC4C1404E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C8B0C-EDDE-4A99-B455-7B1238B0F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B71DC4-5026-47CF-B392-925CF3C8F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A1678C-C64B-4F0E-A93E-24563AAB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F6ECB8-4EBF-447A-B01B-45577FEE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86583-A579-44DD-881D-A5E8F497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36216-DE17-44B5-A3A7-23D32B4D5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81071-144E-484C-9438-FB9C5D721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3AF4BF-8BA1-4662-AE1E-3580C6D81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1601F6-1165-49A9-B3FA-0C21F385D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0BF782-42ED-46CD-95D8-01B952207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C007C6-EFC7-4DAA-BC33-DF1E4F1AD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3CA04-299C-420D-A88B-808531378A7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D3E0F-B343-446A-A016-D349BEA1239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63AF7-6745-4B3E-9488-D45EF2AE38C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C291E-E8AF-4B49-83CC-2BA48C4FD66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C86C2-9FA6-4CD2-93DA-3D50844C7AC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E8F5F-7DCF-492F-A4C6-F57C8D83D0C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31CAA-1CA0-4295-9BE0-7FD2FACF4E9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64E46-EF17-46D3-9EAA-BD9CB82D57D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F1B88-4DAC-49B5-AA25-8FADC4A391C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F9505-F9BE-4991-9385-2795D5E7667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8A1BA-E58B-4C08-8A56-F985EA3EC47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Sharing the Message of Jes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John 4:1-3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395280" y="1844640"/>
            <a:ext cx="7856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Relational Factor: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He says count conversations, not just conver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2 The Narrative Factor: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Listen to their story; share your story; share God’s story; not just propositions or formul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Sharing the Message of Jes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John 4:1-3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395280" y="1844640"/>
            <a:ext cx="8353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3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Communal Factor: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Expect conversion to normally occur in the context of authentic Christian community, not just in the context of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4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Journey Factor:        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To see disciple-making as a holistic process and unending journey, not just a conversion ev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Sharing the Message of Jes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John 4:1-3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TextBox 5"/>
          <p:cNvSpPr/>
          <p:nvPr/>
        </p:nvSpPr>
        <p:spPr>
          <a:xfrm>
            <a:off x="395280" y="1844640"/>
            <a:ext cx="7856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Holy Spirit Factor: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Believe that God is at work ‘out there’ in everyone, not just ‘in here’ in the chu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6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Learning Factor: 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ee evangelism as part of your own discipleship – not just the other person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Sharing the Message of Jes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John 4:1-3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TextBox 5"/>
          <p:cNvSpPr/>
          <p:nvPr/>
        </p:nvSpPr>
        <p:spPr>
          <a:xfrm>
            <a:off x="395280" y="1844640"/>
            <a:ext cx="7856640" cy="40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7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Missional Factor: 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ee evangelism as recruiting people for God’s mission on earth and not just people for heav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buClr>
                <a:srgbClr val="ffff99"/>
              </a:buClr>
              <a:buFont typeface="Tahoma"/>
              <a:buAutoNum type="arabicPlain" startAt="7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8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Service Factor:   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ee evangelism as one facet of our identity as servants to 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1:24Z</dcterms:modified>
  <cp:revision>15</cp:revision>
  <dc:subject/>
  <dc:title>PowerPoint Presentation</dc:title>
</cp:coreProperties>
</file>